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2E70-F4DE-466B-A01B-B399EB777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346C-A0C3-4163-909A-60292A1F1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1774-0268-48D2-B076-5C331A90F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6955-7ED5-4D30-9760-4AABC53A2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444C-6BDE-4DD2-8CFA-4128EADCA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5251-A5AA-497C-BBDA-4A9165DE34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2CCC-1C27-4E77-9A23-DBD600227D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9937-8A43-4607-93AE-858B1F313A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284F-B002-46F4-BB19-8E64302E95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8517-8F8B-4347-8D15-11D4AF397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F6E8-B76B-4884-A2AA-ED2EA89D1A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4D3E-CADE-4733-B33D-E7AF716D50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3F4A1-55A7-42AE-AD92-FA16087484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42DF-39AC-4A4A-B595-C34418301B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BCD7-222C-4550-ADAD-DC33C93C83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E9E9-585F-40B1-9F01-2B17427D50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686B-EF6F-4FD8-BEFC-80A1F970BA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8583-AB98-47A9-ABB7-4E61DB5924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C36-0023-4ADF-8140-81E8441E78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B87-3469-4FC7-82C8-493D4FE6D8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63B-B88A-4092-87C2-55E444D68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AC52-85CD-43F2-A32F-34CB348A46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8BD-3866-4FEC-8CA1-570A768298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3A3-9A76-4196-A007-A59FF494AD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160-A1DA-4092-A466-CBF48F526E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425-93E1-4427-9F25-85FFD02C66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6A20-A5F0-4D4F-A6BB-4FB13C75AD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7FF-AD29-4BD7-949D-3CA10D4908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62F-586B-49DE-8FB5-D4A48E4AA3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F7D-CBA1-4E66-9459-547999F9BF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7DD-8696-45E1-A95E-D0DC170051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D897E-127A-42A2-A6C2-52FDCD3DB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9498-D228-4101-B384-3B5B2EEEC04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4FD88-6B66-4413-B5FC-4CE5247C753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201D2-504A-498C-B4C8-363AA4105C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FB73A-9398-4C8F-ACA4-2D674CB59E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3C7C2-A945-4237-A148-9D5B1DFC2E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FC64B-202D-456A-935D-C3A8B4973F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A8671-D307-4216-A440-55CB69251D8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4335F-7F1A-45D8-8431-A0D9AEBEC4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6ED6D-ACDF-49B3-98CC-B383E38E8B4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C870F-7464-4CF6-B9EB-EAB7AC318F3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9E33C-0C5D-4457-90EE-40D48D726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3034-D804-4ED0-8628-ED41933F0B2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0307C-BC88-4040-A704-5C1E61090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6164-EC26-4F8E-949E-F5F2B4DB7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A360-3FA1-4E1C-A76E-41CAE626D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F815-A9D4-45CD-80A7-BAE402AB0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DD0D-BD80-4C35-81C2-7171C3D665D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66A7-9257-438E-BCF2-3CF1B78BD17B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BFEF-9574-42EF-8E79-2A3E3B620A12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295F-3E91-41BD-9474-6DB66EDD1D9E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50" name="Title 1" descr=""/>
          <p:cNvPicPr/>
          <p:nvPr/>
        </p:nvPicPr>
        <p:blipFill>
          <a:blip r:embed="rId2"/>
          <a:stretch/>
        </p:blipFill>
        <p:spPr>
          <a:xfrm>
            <a:off x="3943440" y="2212920"/>
            <a:ext cx="506088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2"/>
          <p:cNvSpPr/>
          <p:nvPr/>
        </p:nvSpPr>
        <p:spPr>
          <a:xfrm>
            <a:off x="1806480" y="5791320"/>
            <a:ext cx="61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Each shape has a default style. Most shapes can hold text,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1219320" y="1647720"/>
            <a:ext cx="7162560" cy="39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633240" y="1676520"/>
            <a:ext cx="2567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hapes can be moved and sized. They are formatted from the Drawing Tools Format tab or the Format Shape dialog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2"/>
          <a:srcRect l="-2189" t="35839" r="21144" b="-2409"/>
          <a:stretch/>
        </p:blipFill>
        <p:spPr>
          <a:xfrm>
            <a:off x="3500280" y="1676520"/>
            <a:ext cx="534672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4733640" cy="458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9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6027480" cy="151128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A7E2-2D81-458A-8F09-47F872165B2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1231920" y="171360"/>
            <a:ext cx="7692840" cy="846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18840" y="2982960"/>
            <a:ext cx="6661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mmon data are in the same position on each worksheet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ll worksheets have the same row and column labels; data need not be in the same position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762120" y="1523880"/>
            <a:ext cx="817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orksheet and workbook data can be consolidated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7772400" y="1584360"/>
            <a:ext cx="490680" cy="490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6"/>
          <p:cNvSpPr/>
          <p:nvPr/>
        </p:nvSpPr>
        <p:spPr>
          <a:xfrm>
            <a:off x="714240" y="1371600"/>
            <a:ext cx="2714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static consolidation enters a result. This data is being consolidated by position; all the sheets have the data in cells B6:E9. The data from the three monthly sheets will be summed on the 1stQtr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3610080" y="1447920"/>
            <a:ext cx="5229000" cy="48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3363840" y="1736640"/>
            <a:ext cx="5454720" cy="41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3" name="Text Box 6"/>
          <p:cNvSpPr/>
          <p:nvPr/>
        </p:nvSpPr>
        <p:spPr>
          <a:xfrm>
            <a:off x="511200" y="1600200"/>
            <a:ext cx="2852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dynamic consolidation results in 3-D formulas and outline format. Edits made on a source worksheet are automatically calculated on the consolidated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809720" y="1492200"/>
            <a:ext cx="5734080" cy="42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6" name="Text Box 6"/>
          <p:cNvSpPr/>
          <p:nvPr/>
        </p:nvSpPr>
        <p:spPr>
          <a:xfrm>
            <a:off x="2438280" y="5875200"/>
            <a:ext cx="49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Outline levels can be expanded or collap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5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981080" y="602136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ormula displays shows the links to the source workshe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1382760" y="1447920"/>
            <a:ext cx="672444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685800" y="1600200"/>
            <a:ext cx="2666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f the worksheets do not have the labels in the same order, you can consolidate by category. No labels are included in the range on the consolidation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3809880" y="1488960"/>
            <a:ext cx="4759560" cy="48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4348-CB65-4B04-89E6-CA010C1A024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Content Placeholder 3" descr=""/>
          <p:cNvPicPr/>
          <p:nvPr/>
        </p:nvPicPr>
        <p:blipFill>
          <a:blip r:embed="rId2"/>
          <a:stretch/>
        </p:blipFill>
        <p:spPr>
          <a:xfrm>
            <a:off x="378000" y="1414440"/>
            <a:ext cx="844200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14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15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41D0-A1E9-45D7-A605-7555717BBD0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219320" y="14479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ombines data from more than on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dependent workbook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ts data from other workbook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external reference formula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the formula in the dependent workbook that refers to another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ource workbook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vides data to the external reference formul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294920" y="20570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Pointing to the cell(s) when both workbooks are open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ing the Consolidate command and creating links. Both workbooks must be open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Keying the formula with workbook, sheet, and cell references. The source workbook need not be open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533520" y="1363680"/>
            <a:ext cx="8001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You can create an external reference formula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5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7991280" cy="1158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619776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3" name="Text Box 7"/>
          <p:cNvSpPr/>
          <p:nvPr/>
        </p:nvSpPr>
        <p:spPr>
          <a:xfrm>
            <a:off x="534960" y="1523880"/>
            <a:ext cx="209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formula in the dependent workbook refers to the source work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"/>
          <p:cNvSpPr/>
          <p:nvPr/>
        </p:nvSpPr>
        <p:spPr>
          <a:xfrm>
            <a:off x="738360" y="3429000"/>
            <a:ext cx="825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Arial"/>
              </a:rPr>
              <a:t>'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[WorkbookName]WorksheetName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Arial"/>
              </a:rPr>
              <a:t>'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!CellAdd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950760" y="1371600"/>
            <a:ext cx="758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both the dependent and the source workbooks are open, an external reference formula follows this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1676520" y="1630440"/>
            <a:ext cx="61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the source workbook is not open, an external reference formula includes the complete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609480" y="3746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'C:\FolderName\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[WorkbookName]WorksheetNam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!Cell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33F4-F00C-48DE-A7F5-F312988B4E4B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8528040" cy="11588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6"/>
          <p:cNvSpPr/>
          <p:nvPr/>
        </p:nvSpPr>
        <p:spPr>
          <a:xfrm>
            <a:off x="685800" y="190512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n external reference formula creates a connection, a live link to another document. You can view and change the links for a work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4448160" cy="499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8601120" cy="11588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6"/>
          <p:cNvSpPr/>
          <p:nvPr/>
        </p:nvSpPr>
        <p:spPr>
          <a:xfrm>
            <a:off x="533520" y="20574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hen you open a workbook with an external reference formula, the links are disabled as a security meas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581976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927000" y="-6480"/>
            <a:ext cx="8375760" cy="11588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914400" y="1600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the source workbook has been moved or renamed, you will see a message box when opening the dependent work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87240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55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864040" cy="1511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1338-89A6-4C03-8BD2-AD66F379C4B9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1006560" y="-6480"/>
            <a:ext cx="8448480" cy="11588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6"/>
          <p:cNvSpPr/>
          <p:nvPr/>
        </p:nvSpPr>
        <p:spPr>
          <a:xfrm>
            <a:off x="609480" y="1676520"/>
            <a:ext cx="243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hen a source workbook should not be altered, you can add worksheet protection to prohibit ed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3352680" y="1752480"/>
            <a:ext cx="5372280" cy="413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46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875200" cy="151128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3740-0C8C-46B3-BE5F-509D47C8AA20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944640" y="-6480"/>
            <a:ext cx="8400960" cy="11588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2558880" y="2743200"/>
            <a:ext cx="5531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p Art is a category of images that is provided with Excel. A piece of clip art is a single, ready-made pic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1447920" y="2090880"/>
            <a:ext cx="609480" cy="57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1461960" y="1371600"/>
            <a:ext cx="67057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990720" y="1941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Cropping an image is a way to hide part of the image. You can crop clip art or a picture from file. It takes practice to learn how to crop quick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4648320" y="1631880"/>
            <a:ext cx="3998880" cy="438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838080" y="133524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screenshot is a picture of something on the computer screen. This command “captures” the screen and inserts an image in the active worksh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" descr=""/>
          <p:cNvPicPr/>
          <p:nvPr/>
        </p:nvPicPr>
        <p:blipFill>
          <a:blip r:embed="rId2"/>
          <a:stretch/>
        </p:blipFill>
        <p:spPr>
          <a:xfrm>
            <a:off x="1625760" y="2247840"/>
            <a:ext cx="6222960" cy="400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599840" y="1752120"/>
            <a:ext cx="6248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data consolidation, information from several worksheets or workbooks is assembled and summariz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asic consolidation of data in a single workbook can be accomplished using 3-D references to the supporting worksheets on a summary 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1218960" y="15238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Consolidate command on the Data command tab provides static and dynamic consolidations, by position or by catego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consolidate by position when labels and values are in the same location on each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 consolidation by category, the supporting worksheets have the same row and column labels, but the data are organized differentl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9528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results of a static consolidation are not updated if the supporting data chan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ynamic consolidations create links using 3-D cell references to the supporting worksheets. The results appear in an out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 dynamic consolidation, changes made in the supporting worksheets are reflected in the consolidated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447920" y="182844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nking occurs when formulas in a worksheet refer to cells in another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that refer to cells in another workbook are called external reference formula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nked workbooks are either dependent or source workbook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1195560" y="115920"/>
            <a:ext cx="7729200" cy="9018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onsolidatio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combines and summarizes data from multiple workshee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enables you to create a single report from multiple sources without having to rekey da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523520" y="175212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 you create an external reference by pointing, Excel uses proper formula syntax for the reference to the sourc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fter workbooks have been linked, you can review and update the link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alerts you to the existence of links when you open a dependent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752120" y="1599840"/>
            <a:ext cx="6172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you rename or move a source workbook, you need to edit the link in the dependent workbook to maintain the connec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ternal references can be deleted from the dependent workbook. You can also break links but keep resul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8960" indent="-31896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sheet protection is a method of prohibiting changes to a workbook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676160" y="1523520"/>
            <a:ext cx="6172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apes are common figures or outlines. They are objects and can be moved, sized, and styl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includes a large selection of clip art, with more available on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creenshot is a capture of a screen area from another program or Web site. It can be inserted as a picture in the current workshee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774720" y="171360"/>
            <a:ext cx="8588520" cy="846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3048120" y="1447920"/>
            <a:ext cx="5800680" cy="49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1" name="TextBox 3"/>
          <p:cNvSpPr/>
          <p:nvPr/>
        </p:nvSpPr>
        <p:spPr>
          <a:xfrm>
            <a:off x="685800" y="1468440"/>
            <a:ext cx="2133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3-D reference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s a formula that refers to a cell or cells on another worksheet. It includes the sheet name followed by an exclamation point (!) and the cell reference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263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E1E9-FA55-4720-8A50-DCD7FE20554C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09680" y="2361960"/>
            <a:ext cx="5718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a common figure, form, or out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hape is a line illustra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hape is placed as an object on the draw lay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Picture 1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45720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447560" y="16761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hape has a bounding box, a rectangular outl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hape has selection hand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shapes have an adjustment handle, a yellow diamond used to adjust the appearance and design of the shap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st shapes have a rotation handle, a small green circle used to reset the angle of the shap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16"/>
          <p:cNvGrpSpPr/>
          <p:nvPr/>
        </p:nvGrpSpPr>
        <p:grpSpPr>
          <a:xfrm>
            <a:off x="623880" y="1400040"/>
            <a:ext cx="8247960" cy="4773600"/>
            <a:chOff x="623880" y="1400040"/>
            <a:chExt cx="8247960" cy="4773600"/>
          </a:xfrm>
        </p:grpSpPr>
        <p:pic>
          <p:nvPicPr>
            <p:cNvPr id="272" name="Picture 4" descr="ShapeExamples"/>
            <p:cNvPicPr/>
            <p:nvPr/>
          </p:nvPicPr>
          <p:blipFill>
            <a:blip r:embed="rId2"/>
            <a:stretch/>
          </p:blipFill>
          <p:spPr>
            <a:xfrm>
              <a:off x="2673360" y="1842840"/>
              <a:ext cx="4048200" cy="37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6"/>
            <p:cNvSpPr/>
            <p:nvPr/>
          </p:nvSpPr>
          <p:spPr>
            <a:xfrm>
              <a:off x="3760560" y="1400040"/>
              <a:ext cx="20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Rotation han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6679440" y="3443040"/>
              <a:ext cx="21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Selection hand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4098240" y="5805360"/>
              <a:ext cx="17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Bounding 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623880" y="2995200"/>
              <a:ext cx="23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Adjustment han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 flipV="1">
              <a:off x="5035680" y="51192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1"/>
            <p:cNvSpPr/>
            <p:nvPr/>
          </p:nvSpPr>
          <p:spPr>
            <a:xfrm>
              <a:off x="2901960" y="3214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4730760" y="1766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 flipH="1">
              <a:off x="6102000" y="390024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 flipH="1">
              <a:off x="6102000" y="3639960"/>
              <a:ext cx="6858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5"/>
            <p:cNvSpPr/>
            <p:nvPr/>
          </p:nvSpPr>
          <p:spPr>
            <a:xfrm flipH="1" flipV="1">
              <a:off x="6102000" y="263304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10:56Z</dcterms:modified>
  <cp:revision>78</cp:revision>
  <dc:subject/>
  <dc:title>Microsoft office</dc:title>
</cp:coreProperties>
</file>